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E491-9067-4896-BD23-C4478B32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CB93-E62F-40CF-9988-CE2CECA6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9091-38D3-4CFE-BE3F-EC0AE027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6D2B-C626-4C4B-A198-3FA5B812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61B4-0D24-49C7-8ED8-9901E28D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09EBF-9366-4B38-9558-9E8CEE46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2A98-F731-489C-815A-75825A75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E10C-1E41-47DE-9059-79630DCF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C6E5-6AC1-415B-AA67-D33BDA02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6383-0467-4C8B-B9C8-229B24BB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0D6E-0747-4BF4-B4A3-1A8E7CB6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5942-D139-4827-9C1D-AFE43131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0397B-E899-4BF2-8EEF-8FE264FE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48E7-6F95-42FB-BFA2-CA76D9BD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3DBD-84D2-4F58-89A4-D0B04209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48E04-1375-4321-A376-C86CF8A3A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99A0-4842-4908-8951-5A0EBD71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50FE0-E531-407A-AE6F-48F1CDD97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D8894-61B2-4E39-B652-CD84B625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B263A-22AD-4020-8771-49AFFE1E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D0244-AAA6-4E74-80A1-C1E53417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66CB8-4FF3-4618-A00E-434CE167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E273-C32E-4B2F-9C29-C257F746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C6249-03C6-4952-834A-5A030914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3533D-D9AE-4D2A-8823-E1D322C2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294C7-5CB8-4703-AC07-DDD474EE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CB961-FEE6-478F-918D-275B699B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0B6E4-A6BE-447A-9730-131437C7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985C0-D528-4E3B-926D-2C6DD5B4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0DE9E-178F-4C22-BA0A-109E315B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C7F34-D56A-477C-9996-98AD0854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2C9EA-056F-4009-8BD2-801226F3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12B1F-D4DC-4898-B8E7-919FC3E1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B8D9-2395-4BA5-A981-D02A7596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9E06D-B32D-4085-B529-0A1A75A1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E12B0-2343-46C2-8DBB-BDE802AB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91BA0-B846-4196-8B32-1CFC82AE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A794F-3BCF-40E1-9160-56BCDFC2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765CA-AD2D-420F-8654-34E671DC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C9BFA-C8A4-4C7A-8A22-4A4A4CA9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66F0C-3E51-427B-9377-FB7C4EA97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8A133-CFEE-4E1F-8F3A-947F5C83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2B6B2-B3DA-42DC-B9B7-49A5011C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24A4-469F-4C4A-9E56-81CD8DF9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6233-1D16-4573-987A-E2CCC57B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D204-3603-4040-B081-4F8E3136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49BF-4FB8-4017-BAEE-1667F738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FF49-8B21-47E5-934A-2B130E83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0DB6-8B75-41A8-A02D-C2FF1C53EE8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69AA-DE25-4C83-B998-0563061DFF2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B8E58-9E06-4159-90AD-C3AE839E3A4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41FA-C729-4CAE-B883-F11DBDDD96E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97400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nit Plan by Susan Herr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225360" y="-463680"/>
            <a:ext cx="8686800" cy="54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sbanthony_hws_400w1.jpg"/>
          <p:cNvPicPr/>
          <p:nvPr/>
        </p:nvPicPr>
        <p:blipFill>
          <a:blip r:embed="rId1"/>
          <a:stretch/>
        </p:blipFill>
        <p:spPr>
          <a:xfrm>
            <a:off x="349200" y="990720"/>
            <a:ext cx="2622600" cy="2209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6a00e54f195bd88834010535c97e50970c-800wi.jpg"/>
          <p:cNvPicPr/>
          <p:nvPr/>
        </p:nvPicPr>
        <p:blipFill>
          <a:blip r:embed="rId2"/>
          <a:stretch/>
        </p:blipFill>
        <p:spPr>
          <a:xfrm>
            <a:off x="5257800" y="990720"/>
            <a:ext cx="2762280" cy="2286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abraham-lincoln-picture.jpg"/>
          <p:cNvPicPr/>
          <p:nvPr/>
        </p:nvPicPr>
        <p:blipFill>
          <a:blip r:embed="rId3"/>
          <a:stretch/>
        </p:blipFill>
        <p:spPr>
          <a:xfrm>
            <a:off x="2743200" y="3429000"/>
            <a:ext cx="259092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4T00:09:01Z</dcterms:created>
  <dc:creator>ECPS-USER</dc:creator>
  <dc:description/>
  <dc:language>en-US</dc:language>
  <cp:lastModifiedBy>ECPS-USER</cp:lastModifiedBy>
  <dcterms:modified xsi:type="dcterms:W3CDTF">2010-03-04T00:25:01Z</dcterms:modified>
  <cp:revision>2</cp:revision>
  <dc:subject/>
  <dc:title>What’s so GREAT about these Americans?</dc:title>
</cp:coreProperties>
</file>